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559B-C3AB-47DF-A1E3-B2D18DE91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771F-4AD4-4CFD-B6C5-3D23FC41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CA216-434E-4739-B23E-E225B69A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522247-0970-46F2-B223-679FFA5F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058E6-A77E-4ADD-835E-72B2FE31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12798-0338-498C-BA04-0785A577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94948-EFDE-4393-BC82-88B14165F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0BC53-DDB1-4EA7-9437-B87A4D61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8F83B-3A9B-4725-BA0F-E94E3B4C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E64E6-2195-4B23-8B7E-78A8854E6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3469A-2BCA-4915-9E39-1D423EC2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8DEEF-762B-45C0-978A-22DCA354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F1F2-3B60-4DEF-9137-3365BCA9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74A4C-5CD1-4E31-9AB1-9E33E2AB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2AFC16-610E-4700-8A5E-ACE5D97C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763A4-83D2-4168-B78C-35412DCD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1886D-38C9-4D28-91AA-E9F520C0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806D44-6BB3-4322-9353-EEC32AD0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D3F17-31BC-4BAA-BC11-EE5CD1A1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F2F736-448A-4607-A4FB-CA4B3476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FC5E8E-9927-4368-868E-B77748F3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472379-89A3-4A7C-BFB7-064B78DA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00A60-3E66-44E1-925C-8C9A8326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1F8E-C08A-4AA2-9C19-AAECBC41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344A70-1379-4DC6-9A21-F7E8D3D2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029AE-E6D7-44F5-B6BA-5D0184EA6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49706-8FC4-4D01-8631-424498FA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D9BD9-CE4E-4E71-96CD-EC7B1129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1EC2D-BD6D-455A-B2D5-B377089AF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0FF3C-2F3E-454B-8DB3-3C17EC6A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FA699-D704-4D8D-B1B8-4D417754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FCDB9-8663-4D65-9680-6C56CDAB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46D8F-2C4E-4CFC-8F5C-671FD19E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E746E-869E-44E1-BDD8-1DCE1178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C39B-177B-4E2B-91D7-6282489C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08A1F-336F-4E6C-952C-435122CC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40E37-E0D4-42BD-8690-AD5A9DBEC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BCE1A-B4FF-4FC4-BBBD-879F8FD61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D276-CFA8-4BCA-8734-0250E300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7AB9-D937-47C3-AC34-FEBEC425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0A91-9365-48FC-8CDB-8C8FCB55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8837-F28F-48C3-94A7-CF0BC1BB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D765-8663-4D05-A200-CE0C0375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C6F0-043D-4E44-B7DC-C9F3FC14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42EE-2D13-4985-8476-CF7B3F6A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F38F-7C4C-4E50-BF26-A8E4D649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3830-29EB-4E88-89AA-864E3C8C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0AD1-E456-4577-92AA-827CF099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8392-7123-4C78-A54F-B5111C7A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3388-A9A9-424E-9E46-CB35DF00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3649C-3EC1-44D7-A1A5-02CF2AB78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A6AE1-4436-4F4C-B35D-AD307FEE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BFDB2-701F-46FF-8609-6110BCCFE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5C527-0D15-4E12-8BEF-5E335533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37446-9C3D-43AB-AD7F-88382833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DB04-6BB9-4B9C-89DA-11D4B6D6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8717A-27CC-465C-8B3D-656B913A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5EB80-3553-4383-90A1-CD824C67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82192-71EB-41C4-9BD7-3E288F42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86645-7A6E-422B-A1EE-EECDFFAF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D1CC1-E59E-4371-8389-72749007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178D1-BC9C-4650-94DE-F169C056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2D4AD-BE13-4270-A58B-89D57CA0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C1095-748C-4BBB-A501-24572FAA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D9BF5-0D0B-45D5-9313-588FD2B1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34A30-99B3-4FA8-9357-985E85D5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FA51-4100-4725-8D17-22F72C16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05095-5E53-45D7-8F9E-9932C3F8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B3E9F-D2CC-4ED0-8BF6-3C8D12A0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A9C64-9AC4-45CA-9F1A-A5374463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3915D-A126-4C9E-AABF-D42B34EA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5E8D7-F7C0-4BC9-A48A-EF40B159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D229F-6B71-45FA-AA9B-A63F93EA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4645E-19D7-4FBB-A770-971AC0FC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CBAE7-8839-463B-A125-B9824CDF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92C62-28BF-41B5-A9E6-FDA18EAE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F3355-6F78-4D24-81E6-E92D4A14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D81D-FF8E-40A6-BA55-707898C9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B0FC7-A1E1-4F01-BECD-9716F6C3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E17F7-EF71-4259-A9F8-04F80697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45DF4-170E-4917-ACCE-CA93CA34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894B8-0DBE-426D-82FA-52628858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EC8DD-4749-4701-95BA-8C55BE0F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F911A-91B6-40DB-9DDD-FED0D87A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08683-D1CF-4720-BE78-954716A1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778C0-DE3F-423B-85C3-05975261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91800-2183-48B1-9CC9-FBF7933A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F4CDA-4CB7-4A1A-B6E5-B8221C5D9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8116-E103-4470-BEF1-7456607D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BDC9E-5D3D-4732-A97D-49A005E80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DA16F-CCCA-4E6F-A1E7-E0C51B77C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BA886-F0EB-43E8-B86E-DB0D3525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0733A-A68B-408F-9DB3-AF50A916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D8B02-4C2D-4460-B3CB-5EA6DE4E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3A53B-0255-4236-9C91-59F47E10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96ADD-EC54-432E-9563-E6C70479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6AA12-C093-49AB-A265-E1D7E022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0AC59-78E0-4193-AD59-5742CC2E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8F642-E626-48DF-8590-BC722358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67C7-6423-456E-A6B9-E3F200E3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C57F8-A805-49F1-AAE2-5847944D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B1DDB-37F3-4776-93D1-CCF06ECD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39585-D25B-40C6-A4D2-BD90B7F42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A9EB0-D93B-4A5E-A56C-6E3A475A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B7450-979F-4CF5-AAA8-8A536BD6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FA984-06E2-4A57-B535-D695F907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841A6-B8A9-4D7B-B490-198F92F4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B2DE0-8577-4134-A48D-567A1FE3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895DA-C1CB-461A-9555-9A645376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A4351-388A-4EED-86C5-EFCC0BE7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9C8D-2728-4BA9-9D64-0C687CE7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AF779-F5DD-403E-B8E7-2F01A770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6076C-3EE7-4A8B-B8B6-41793869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7BEA3-FB5A-465D-B925-EC1379A0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E0505-B6AC-46B5-B918-E78E6C16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15D0C-5581-4C9A-A638-925515F24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A2515-2464-4D1A-B904-8E9BFE98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FD99A-CD22-4823-BC2E-EA1FABED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A7F70-4AD7-4DFD-B989-665C51C5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1AE1B-EEB7-4D89-9DF4-C636961B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9D03F-617A-4E21-B4DD-80DDAB06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8A96-10BD-485A-BB62-7D7C8687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E7123-448B-4C53-AEB2-76C7C3E4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FA9DB-C6F0-4820-9757-D482CBA7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62A7C-6B90-410E-B1CC-23C11936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E0E4A-FC8E-4BDB-8278-57853D23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CC828-AD26-45FB-AC2E-8E0F566E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5E0BA-CFFD-4901-9004-E703BC5B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6E9E7-28F2-4851-B90A-7B12DBFB0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C6CCC-761C-4676-9F56-94B0957E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65A26-B886-4A4E-BF2E-07FEB0DD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B4747-24B8-4EF5-9784-D70303C8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FC63-92F6-4FD3-B981-011792408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6206-A538-44CD-87C1-1705001C4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A80F-7C1E-45D7-AA47-81ED14430E76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A09C-019A-4784-9A9F-0C518A75D9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7603-B8CD-47B7-965F-E957F695D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C645-1135-4F40-AD1F-1033A46DF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5D793-0C50-457E-86E7-431189733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B555-7517-499F-9965-14224164A8E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DE9A-CAD1-445A-B726-B1BECBAC6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E660-D815-4A06-A7B9-6D550D1F7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3A9F-3ED6-4D36-9318-08266F6D8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00000"/>
                </a:solidFill>
                <a:latin typeface="Tahoma"/>
              </a:rPr>
              <a:t>Estrategia Empresari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8" name="Rectangle 4"/>
          <p:cNvSpPr/>
          <p:nvPr/>
        </p:nvSpPr>
        <p:spPr>
          <a:xfrm>
            <a:off x="3962520" y="5638680"/>
            <a:ext cx="4800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9" name="Rectangle 5"/>
          <p:cNvSpPr/>
          <p:nvPr/>
        </p:nvSpPr>
        <p:spPr>
          <a:xfrm>
            <a:off x="611280" y="907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755640" y="2349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99"/>
                </a:solidFill>
                <a:latin typeface="Tahoma"/>
              </a:rPr>
              <a:t>La Ventaja Competitiva</a:t>
            </a:r>
            <a:br>
              <a:rPr sz="3600"/>
            </a:b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3168360" cy="4321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571680" y="2286000"/>
            <a:ext cx="6858000" cy="2133720"/>
          </a:xfrm>
          <a:prstGeom prst="rect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ACTIVIDADES SECUNDARI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571680" y="4419720"/>
            <a:ext cx="6858000" cy="1295280"/>
          </a:xfrm>
          <a:prstGeom prst="rect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ACTIVIDADES PRIMARI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2074320" y="762120"/>
            <a:ext cx="4310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58c"/>
                </a:solidFill>
                <a:latin typeface="Tahoma"/>
              </a:rPr>
              <a:t>Cadena de Valor SOFT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539640" y="2276640"/>
            <a:ext cx="6858000" cy="50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VISION - 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539640" y="2852640"/>
            <a:ext cx="6858000" cy="50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CONOCIMIENTOS - 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539640" y="3357720"/>
            <a:ext cx="6858000" cy="50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CULTURA – ESTRUCTURA - 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539640" y="3860640"/>
            <a:ext cx="6858000" cy="50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TIMMING – NEGOCIACION - 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571680" y="4429080"/>
            <a:ext cx="1371600" cy="131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P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OPCIONES FINANCI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RA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1943280" y="4419720"/>
            <a:ext cx="1371600" cy="131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P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OPCIONES DE OPERACION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3348000" y="4437000"/>
            <a:ext cx="1371600" cy="131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OPCIONES DE DISTRIBU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CION  P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6" name=""/>
          <p:cNvSpPr/>
          <p:nvPr/>
        </p:nvSpPr>
        <p:spPr>
          <a:xfrm>
            <a:off x="4686480" y="4419720"/>
            <a:ext cx="1371600" cy="131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OPCIONES DE MARKETING Y VENTAS  P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7" name=""/>
          <p:cNvSpPr/>
          <p:nvPr/>
        </p:nvSpPr>
        <p:spPr>
          <a:xfrm>
            <a:off x="6058080" y="4419720"/>
            <a:ext cx="1371600" cy="131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P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SERVICIO AL CLIENTE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 rot="5400000">
            <a:off x="6419520" y="3371760"/>
            <a:ext cx="3505320" cy="1333440"/>
          </a:xfrm>
          <a:prstGeom prst="triangle">
            <a:avLst>
              <a:gd name="adj" fmla="val 50000"/>
            </a:avLst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 rot="16200000">
            <a:off x="6468480" y="3535560"/>
            <a:ext cx="3354480" cy="9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40458c"/>
                </a:solidFill>
                <a:latin typeface="Tahoma"/>
                <a:ea typeface="Tahoma"/>
              </a:rPr>
              <a:t>MARG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40458c"/>
                </a:solidFill>
                <a:latin typeface="Tahoma"/>
                <a:ea typeface="Tahoma"/>
              </a:rPr>
              <a:t>Sof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3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3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1474560" y="380880"/>
            <a:ext cx="6339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58c"/>
                </a:solidFill>
                <a:latin typeface="Tahoma"/>
              </a:rPr>
              <a:t>Aplicación de la Cadena de Valor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380880" y="1905120"/>
            <a:ext cx="8382240" cy="914400"/>
            <a:chOff x="380880" y="1905120"/>
            <a:chExt cx="8382240" cy="914400"/>
          </a:xfrm>
        </p:grpSpPr>
        <p:sp>
          <p:nvSpPr>
            <p:cNvPr id="642" name=""/>
            <p:cNvSpPr/>
            <p:nvPr/>
          </p:nvSpPr>
          <p:spPr>
            <a:xfrm>
              <a:off x="2228760" y="1905120"/>
              <a:ext cx="1467000" cy="76212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44600" y="1981440"/>
              <a:ext cx="1466640" cy="762120"/>
            </a:xfrm>
            <a:custGeom>
              <a:avLst/>
              <a:gdLst>
                <a:gd name="textAreaLeft" fmla="*/ 0 w 1466640"/>
                <a:gd name="textAreaRight" fmla="*/ 1467000 w 1466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80880" y="2057760"/>
              <a:ext cx="1467000" cy="76176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165400" y="1981440"/>
              <a:ext cx="1466640" cy="762120"/>
            </a:xfrm>
            <a:custGeom>
              <a:avLst/>
              <a:gdLst>
                <a:gd name="textAreaLeft" fmla="*/ 0 w 1466640"/>
                <a:gd name="textAreaRight" fmla="*/ 1467000 w 1466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81080" y="2057760"/>
              <a:ext cx="1587600" cy="761760"/>
            </a:xfrm>
            <a:custGeom>
              <a:avLst/>
              <a:gdLst>
                <a:gd name="textAreaLeft" fmla="*/ 0 w 1587600"/>
                <a:gd name="textAreaRight" fmla="*/ 1587960 w 15876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Cadenas de valor 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de proveedores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733920" y="2057760"/>
              <a:ext cx="1587240" cy="761760"/>
            </a:xfrm>
            <a:custGeom>
              <a:avLst/>
              <a:gdLst>
                <a:gd name="textAreaLeft" fmla="*/ 0 w 1587240"/>
                <a:gd name="textAreaRight" fmla="*/ 1587600 w 158724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7c1eb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Cadenas de valor 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de la empresa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543640" y="1905120"/>
              <a:ext cx="1466640" cy="762120"/>
            </a:xfrm>
            <a:custGeom>
              <a:avLst/>
              <a:gdLst>
                <a:gd name="textAreaLeft" fmla="*/ 0 w 1466640"/>
                <a:gd name="textAreaRight" fmla="*/ 1467000 w 1466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479920" y="1981440"/>
              <a:ext cx="1467000" cy="76212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296120" y="1905120"/>
              <a:ext cx="1467000" cy="76212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32760" y="1981440"/>
              <a:ext cx="1466640" cy="762120"/>
            </a:xfrm>
            <a:custGeom>
              <a:avLst/>
              <a:gdLst>
                <a:gd name="textAreaLeft" fmla="*/ 0 w 1466640"/>
                <a:gd name="textAreaRight" fmla="*/ 1467000 w 1466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346720" y="2057760"/>
              <a:ext cx="1587600" cy="761760"/>
            </a:xfrm>
            <a:custGeom>
              <a:avLst/>
              <a:gdLst>
                <a:gd name="textAreaLeft" fmla="*/ 0 w 1587600"/>
                <a:gd name="textAreaRight" fmla="*/ 1587960 w 15876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Cadenas de valor 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de canal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099200" y="2057760"/>
              <a:ext cx="1587600" cy="761760"/>
            </a:xfrm>
            <a:custGeom>
              <a:avLst/>
              <a:gdLst>
                <a:gd name="textAreaLeft" fmla="*/ 0 w 1587600"/>
                <a:gd name="textAreaRight" fmla="*/ 1587960 w 15876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Cadenas de valor 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del comprador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1844280" y="1219320"/>
            <a:ext cx="57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mpresa de un solo sector industri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5493600" y="3429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mpresa diversific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80880" y="3352680"/>
            <a:ext cx="8382240" cy="3429000"/>
            <a:chOff x="380880" y="3352680"/>
            <a:chExt cx="8382240" cy="3429000"/>
          </a:xfrm>
        </p:grpSpPr>
        <p:sp>
          <p:nvSpPr>
            <p:cNvPr id="657" name=""/>
            <p:cNvSpPr/>
            <p:nvPr/>
          </p:nvSpPr>
          <p:spPr>
            <a:xfrm>
              <a:off x="2228760" y="4572000"/>
              <a:ext cx="1467000" cy="76212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44600" y="4648320"/>
              <a:ext cx="1466640" cy="761760"/>
            </a:xfrm>
            <a:custGeom>
              <a:avLst/>
              <a:gdLst>
                <a:gd name="textAreaLeft" fmla="*/ 0 w 1466640"/>
                <a:gd name="textAreaRight" fmla="*/ 1467000 w 146664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80880" y="4724280"/>
              <a:ext cx="1467000" cy="76212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165400" y="4648320"/>
              <a:ext cx="1466640" cy="761760"/>
            </a:xfrm>
            <a:custGeom>
              <a:avLst/>
              <a:gdLst>
                <a:gd name="textAreaLeft" fmla="*/ 0 w 1466640"/>
                <a:gd name="textAreaRight" fmla="*/ 1467000 w 146664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981080" y="4724280"/>
              <a:ext cx="1587600" cy="762120"/>
            </a:xfrm>
            <a:custGeom>
              <a:avLst/>
              <a:gdLst>
                <a:gd name="textAreaLeft" fmla="*/ 0 w 1587600"/>
                <a:gd name="textAreaRight" fmla="*/ 1587960 w 15876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Cadenas de valor 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de proveedores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733920" y="4724280"/>
              <a:ext cx="1587240" cy="762120"/>
            </a:xfrm>
            <a:custGeom>
              <a:avLst/>
              <a:gdLst>
                <a:gd name="textAreaLeft" fmla="*/ 0 w 1587240"/>
                <a:gd name="textAreaRight" fmla="*/ 1587600 w 15872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7c1eb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Cadenas de valor 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de la UEN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543640" y="4572000"/>
              <a:ext cx="1466640" cy="762120"/>
            </a:xfrm>
            <a:custGeom>
              <a:avLst/>
              <a:gdLst>
                <a:gd name="textAreaLeft" fmla="*/ 0 w 1466640"/>
                <a:gd name="textAreaRight" fmla="*/ 1467000 w 14666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479920" y="4648320"/>
              <a:ext cx="1467000" cy="76176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96120" y="4572000"/>
              <a:ext cx="1467000" cy="762120"/>
            </a:xfrm>
            <a:custGeom>
              <a:avLst/>
              <a:gdLst>
                <a:gd name="textAreaLeft" fmla="*/ 0 w 1467000"/>
                <a:gd name="textAreaRight" fmla="*/ 1467360 w 14670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232760" y="4648320"/>
              <a:ext cx="1466640" cy="761760"/>
            </a:xfrm>
            <a:custGeom>
              <a:avLst/>
              <a:gdLst>
                <a:gd name="textAreaLeft" fmla="*/ 0 w 1466640"/>
                <a:gd name="textAreaRight" fmla="*/ 1467000 w 146664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cd882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46720" y="4724280"/>
              <a:ext cx="1587600" cy="762120"/>
            </a:xfrm>
            <a:custGeom>
              <a:avLst/>
              <a:gdLst>
                <a:gd name="textAreaLeft" fmla="*/ 0 w 1587600"/>
                <a:gd name="textAreaRight" fmla="*/ 1587960 w 15876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 </a:t>
              </a: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Cadenas de valor 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de canal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099200" y="4724280"/>
              <a:ext cx="1587600" cy="762120"/>
            </a:xfrm>
            <a:custGeom>
              <a:avLst/>
              <a:gdLst>
                <a:gd name="textAreaLeft" fmla="*/ 0 w 1587600"/>
                <a:gd name="textAreaRight" fmla="*/ 1587960 w 158760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Cadenas de valor 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del comprador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057400" y="3505320"/>
              <a:ext cx="1587600" cy="761760"/>
            </a:xfrm>
            <a:custGeom>
              <a:avLst/>
              <a:gdLst>
                <a:gd name="textAreaLeft" fmla="*/ 0 w 1587600"/>
                <a:gd name="textAreaRight" fmla="*/ 1587960 w 1587600"/>
                <a:gd name="textAreaTop" fmla="*/ 0 h 761760"/>
                <a:gd name="textAreaBottom" fmla="*/ 7621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7c1eb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Cadenas de valor 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de la UEN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733920" y="5867280"/>
              <a:ext cx="1587240" cy="762120"/>
            </a:xfrm>
            <a:custGeom>
              <a:avLst/>
              <a:gdLst>
                <a:gd name="textAreaLeft" fmla="*/ 0 w 1587240"/>
                <a:gd name="textAreaRight" fmla="*/ 1587600 w 1587240"/>
                <a:gd name="textAreaTop" fmla="*/ 0 h 762120"/>
                <a:gd name="textAreaBottom" fmla="*/ 7624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7c1eb"/>
            </a:solidFill>
            <a:ln w="1260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Cadenas de valor 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Y" sz="1200" spc="-1" strike="noStrike">
                  <a:solidFill>
                    <a:srgbClr val="40458c"/>
                  </a:solidFill>
                  <a:latin typeface="Tahoma"/>
                </a:rPr>
                <a:t>de la UEN</a:t>
              </a: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419720" y="5486400"/>
              <a:ext cx="0" cy="380880"/>
            </a:xfrm>
            <a:prstGeom prst="line">
              <a:avLst/>
            </a:prstGeom>
            <a:ln w="38160">
              <a:solidFill>
                <a:srgbClr val="40458c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828800" y="3352680"/>
              <a:ext cx="3505320" cy="3429000"/>
            </a:xfrm>
            <a:custGeom>
              <a:avLst/>
              <a:gdLst/>
              <a:ahLst/>
              <a:rect l="l" t="t" r="r" b="b"/>
              <a:pathLst>
                <a:path w="2160" h="2112">
                  <a:moveTo>
                    <a:pt x="0" y="0"/>
                  </a:moveTo>
                  <a:lnTo>
                    <a:pt x="2160" y="0"/>
                  </a:lnTo>
                  <a:lnTo>
                    <a:pt x="2160" y="2112"/>
                  </a:lnTo>
                  <a:lnTo>
                    <a:pt x="1104" y="2112"/>
                  </a:lnTo>
                  <a:lnTo>
                    <a:pt x="1104" y="672"/>
                  </a:lnTo>
                  <a:lnTo>
                    <a:pt x="0" y="67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40458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ransition>
    <p:wipe dir="r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0066"/>
                </a:solidFill>
                <a:latin typeface="Tahoma"/>
              </a:rPr>
              <a:t>Los fundamentos de la Estrategia Competitiv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4" name="Text Box 3"/>
          <p:cNvSpPr/>
          <p:nvPr/>
        </p:nvSpPr>
        <p:spPr>
          <a:xfrm>
            <a:off x="289080" y="1905120"/>
            <a:ext cx="855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+ El objetivo central de las empresas es el retorno sobre la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inversión superior al promedio de manera sostenid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+ La unidad de análisis fundamental es la industr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+ Los resultados de las empresas resultan de dos causas distinta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1476360" y="3933720"/>
            <a:ext cx="13716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ructura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e la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industri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6" name="AutoShape 5"/>
          <p:cNvSpPr/>
          <p:nvPr/>
        </p:nvSpPr>
        <p:spPr>
          <a:xfrm>
            <a:off x="3352680" y="4191120"/>
            <a:ext cx="1828800" cy="838080"/>
          </a:xfrm>
          <a:prstGeom prst="leftRightArrow">
            <a:avLst>
              <a:gd name="adj1" fmla="val 50000"/>
              <a:gd name="adj2" fmla="val 43440"/>
            </a:avLst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7" name="Rectangle 6"/>
          <p:cNvSpPr/>
          <p:nvPr/>
        </p:nvSpPr>
        <p:spPr>
          <a:xfrm>
            <a:off x="5715000" y="3962520"/>
            <a:ext cx="13716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Posic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elati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n la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Industri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8" name="Text Box 7"/>
          <p:cNvSpPr/>
          <p:nvPr/>
        </p:nvSpPr>
        <p:spPr>
          <a:xfrm>
            <a:off x="1066680" y="55627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Reglas del jueg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9" name="Text Box 8"/>
          <p:cNvSpPr/>
          <p:nvPr/>
        </p:nvSpPr>
        <p:spPr>
          <a:xfrm>
            <a:off x="4572000" y="55627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Fuentes de Ventaja Competiti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430920" y="6026040"/>
            <a:ext cx="393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+ La estrategia surge de amb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Ventaja Competitiva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2" name="AutoShape 4"/>
          <p:cNvSpPr/>
          <p:nvPr/>
        </p:nvSpPr>
        <p:spPr>
          <a:xfrm>
            <a:off x="6019920" y="2895480"/>
            <a:ext cx="2971800" cy="6858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iferenci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3" name="AutoShape 6"/>
          <p:cNvSpPr/>
          <p:nvPr/>
        </p:nvSpPr>
        <p:spPr>
          <a:xfrm>
            <a:off x="6019920" y="4267080"/>
            <a:ext cx="2971800" cy="68580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iderazgo en Cos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684" name="Object 7"/>
          <p:cNvGraphicFramePr/>
          <p:nvPr/>
        </p:nvGraphicFramePr>
        <p:xfrm>
          <a:off x="977760" y="2158920"/>
          <a:ext cx="6807240" cy="46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7760" y="2158920"/>
                    <a:ext cx="6807240" cy="46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6" name="Picture 9" descr="http://www.swassociates.es/images/s_estrategia.gif"/>
          <p:cNvPicPr/>
          <p:nvPr/>
        </p:nvPicPr>
        <p:blipFill>
          <a:blip r:embed="rId3"/>
          <a:srcRect l="0" t="12501" r="2579" b="0"/>
          <a:stretch/>
        </p:blipFill>
        <p:spPr>
          <a:xfrm>
            <a:off x="0" y="5357880"/>
            <a:ext cx="4500720" cy="1500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1295280" y="609480"/>
            <a:ext cx="214956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imes New Roman"/>
              </a:rPr>
              <a:t>Recurs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8" name="Text Box 3"/>
          <p:cNvSpPr/>
          <p:nvPr/>
        </p:nvSpPr>
        <p:spPr>
          <a:xfrm>
            <a:off x="5486400" y="609480"/>
            <a:ext cx="214956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imes New Roman"/>
              </a:rPr>
              <a:t>Capac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2971800" y="1752480"/>
            <a:ext cx="2149560" cy="1373760"/>
          </a:xfrm>
          <a:prstGeom prst="rect">
            <a:avLst/>
          </a:prstGeom>
          <a:solidFill>
            <a:srgbClr val="cc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imes New Roman"/>
              </a:rPr>
              <a:t>Competencia Centr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90" name="Group 5"/>
          <p:cNvGrpSpPr/>
          <p:nvPr/>
        </p:nvGrpSpPr>
        <p:grpSpPr>
          <a:xfrm>
            <a:off x="5148360" y="1916280"/>
            <a:ext cx="1523880" cy="1541520"/>
            <a:chOff x="5148360" y="1916280"/>
            <a:chExt cx="1523880" cy="1541520"/>
          </a:xfrm>
        </p:grpSpPr>
        <p:sp>
          <p:nvSpPr>
            <p:cNvPr id="691" name="Text Box 6"/>
            <p:cNvSpPr/>
            <p:nvPr/>
          </p:nvSpPr>
          <p:spPr>
            <a:xfrm>
              <a:off x="5148360" y="1916280"/>
              <a:ext cx="1523880" cy="398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0458c"/>
                  </a:solidFill>
                  <a:latin typeface="Times New Roman"/>
                </a:rPr>
                <a:t>Eficiencia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2" name="Text Box 7"/>
            <p:cNvSpPr/>
            <p:nvPr/>
          </p:nvSpPr>
          <p:spPr>
            <a:xfrm>
              <a:off x="5148360" y="2296800"/>
              <a:ext cx="1523880" cy="398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0458c"/>
                  </a:solidFill>
                  <a:latin typeface="Times New Roman"/>
                </a:rPr>
                <a:t>Innovación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3" name="Text Box 8"/>
            <p:cNvSpPr/>
            <p:nvPr/>
          </p:nvSpPr>
          <p:spPr>
            <a:xfrm>
              <a:off x="5148360" y="2678040"/>
              <a:ext cx="1523880" cy="398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0458c"/>
                  </a:solidFill>
                  <a:latin typeface="Times New Roman"/>
                </a:rPr>
                <a:t>Calidad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94" name="Text Box 9"/>
            <p:cNvSpPr/>
            <p:nvPr/>
          </p:nvSpPr>
          <p:spPr>
            <a:xfrm>
              <a:off x="5148360" y="3058920"/>
              <a:ext cx="1523880" cy="398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40458c"/>
                  </a:solidFill>
                  <a:latin typeface="Times New Roman"/>
                </a:rPr>
                <a:t>Satisfacción</a:t>
              </a:r>
              <a:endParaRPr b="0" lang="en-US" sz="20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95" name="Text Box 10"/>
          <p:cNvSpPr/>
          <p:nvPr/>
        </p:nvSpPr>
        <p:spPr>
          <a:xfrm>
            <a:off x="2666880" y="4191120"/>
            <a:ext cx="388620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Times New Roman"/>
              </a:rPr>
              <a:t>Ventaja Competitiv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6" name="Text Box 11"/>
          <p:cNvSpPr/>
          <p:nvPr/>
        </p:nvSpPr>
        <p:spPr>
          <a:xfrm>
            <a:off x="380880" y="5105520"/>
            <a:ext cx="2149560" cy="5205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Times New Roman"/>
              </a:rPr>
              <a:t>Precio May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7" name="Text Box 12"/>
          <p:cNvSpPr/>
          <p:nvPr/>
        </p:nvSpPr>
        <p:spPr>
          <a:xfrm>
            <a:off x="6553080" y="5105520"/>
            <a:ext cx="2149560" cy="5205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Times New Roman"/>
              </a:rPr>
              <a:t>Costo Men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8" name="Text Box 13"/>
          <p:cNvSpPr/>
          <p:nvPr/>
        </p:nvSpPr>
        <p:spPr>
          <a:xfrm>
            <a:off x="2590920" y="5791320"/>
            <a:ext cx="3962160" cy="94716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Times New Roman"/>
              </a:rPr>
              <a:t>Rentabilidad sobre el promedi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9" name="Line 14"/>
          <p:cNvSpPr/>
          <p:nvPr/>
        </p:nvSpPr>
        <p:spPr>
          <a:xfrm>
            <a:off x="2286000" y="1143000"/>
            <a:ext cx="0" cy="3049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0" name="Line 15"/>
          <p:cNvSpPr/>
          <p:nvPr/>
        </p:nvSpPr>
        <p:spPr>
          <a:xfrm>
            <a:off x="6629400" y="1143000"/>
            <a:ext cx="0" cy="3049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1" name="Line 16"/>
          <p:cNvSpPr/>
          <p:nvPr/>
        </p:nvSpPr>
        <p:spPr>
          <a:xfrm>
            <a:off x="2286000" y="1447920"/>
            <a:ext cx="434340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2" name="Line 17"/>
          <p:cNvSpPr/>
          <p:nvPr/>
        </p:nvSpPr>
        <p:spPr>
          <a:xfrm>
            <a:off x="4343400" y="1447920"/>
            <a:ext cx="0" cy="30456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3" name="Line 18"/>
          <p:cNvSpPr/>
          <p:nvPr/>
        </p:nvSpPr>
        <p:spPr>
          <a:xfrm>
            <a:off x="4343400" y="3581280"/>
            <a:ext cx="0" cy="60984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4" name="Line 19"/>
          <p:cNvSpPr/>
          <p:nvPr/>
        </p:nvSpPr>
        <p:spPr>
          <a:xfrm flipH="1">
            <a:off x="1447920" y="4419720"/>
            <a:ext cx="121896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5" name="Line 20"/>
          <p:cNvSpPr/>
          <p:nvPr/>
        </p:nvSpPr>
        <p:spPr>
          <a:xfrm flipH="1">
            <a:off x="6552720" y="4419720"/>
            <a:ext cx="121932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6" name="Line 21"/>
          <p:cNvSpPr/>
          <p:nvPr/>
        </p:nvSpPr>
        <p:spPr>
          <a:xfrm>
            <a:off x="1447920" y="4419720"/>
            <a:ext cx="0" cy="68580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7" name="Line 22"/>
          <p:cNvSpPr/>
          <p:nvPr/>
        </p:nvSpPr>
        <p:spPr>
          <a:xfrm>
            <a:off x="7772400" y="4419720"/>
            <a:ext cx="0" cy="68580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8" name="Line 23"/>
          <p:cNvSpPr/>
          <p:nvPr/>
        </p:nvSpPr>
        <p:spPr>
          <a:xfrm>
            <a:off x="1447920" y="5638680"/>
            <a:ext cx="0" cy="7621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9" name="Line 24"/>
          <p:cNvSpPr/>
          <p:nvPr/>
        </p:nvSpPr>
        <p:spPr>
          <a:xfrm>
            <a:off x="7696080" y="5638680"/>
            <a:ext cx="0" cy="7621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0" name="Line 25"/>
          <p:cNvSpPr/>
          <p:nvPr/>
        </p:nvSpPr>
        <p:spPr>
          <a:xfrm>
            <a:off x="1447920" y="6400800"/>
            <a:ext cx="114300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1" name="Line 26"/>
          <p:cNvSpPr/>
          <p:nvPr/>
        </p:nvSpPr>
        <p:spPr>
          <a:xfrm flipH="1">
            <a:off x="6552720" y="6400800"/>
            <a:ext cx="1143000" cy="0"/>
          </a:xfrm>
          <a:prstGeom prst="line">
            <a:avLst/>
          </a:prstGeom>
          <a:ln w="2844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2" name="Text Box 27"/>
          <p:cNvSpPr/>
          <p:nvPr/>
        </p:nvSpPr>
        <p:spPr>
          <a:xfrm>
            <a:off x="7391520" y="3200400"/>
            <a:ext cx="152388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imes New Roman"/>
              </a:rPr>
              <a:t>Eficienci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3" name="Text Box 28"/>
          <p:cNvSpPr/>
          <p:nvPr/>
        </p:nvSpPr>
        <p:spPr>
          <a:xfrm>
            <a:off x="7391520" y="3733920"/>
            <a:ext cx="152388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imes New Roman"/>
              </a:rPr>
              <a:t>Innovació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4" name="Text Box 29"/>
          <p:cNvSpPr/>
          <p:nvPr/>
        </p:nvSpPr>
        <p:spPr>
          <a:xfrm>
            <a:off x="152280" y="3809880"/>
            <a:ext cx="152424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imes New Roman"/>
              </a:rPr>
              <a:t>Calida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5" name="Text Box 30"/>
          <p:cNvSpPr/>
          <p:nvPr/>
        </p:nvSpPr>
        <p:spPr>
          <a:xfrm>
            <a:off x="152280" y="3276720"/>
            <a:ext cx="152424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imes New Roman"/>
              </a:rPr>
              <a:t>Satisfacció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6" name="Text Box 31"/>
          <p:cNvSpPr/>
          <p:nvPr/>
        </p:nvSpPr>
        <p:spPr>
          <a:xfrm>
            <a:off x="152280" y="4343400"/>
            <a:ext cx="152424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imes New Roman"/>
              </a:rPr>
              <a:t>Innovació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7" name="Text Box 32"/>
          <p:cNvSpPr/>
          <p:nvPr/>
        </p:nvSpPr>
        <p:spPr>
          <a:xfrm>
            <a:off x="7391520" y="4267080"/>
            <a:ext cx="152388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cfdb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imes New Roman"/>
              </a:rPr>
              <a:t>Calida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"/>
          <p:cNvSpPr/>
          <p:nvPr/>
        </p:nvSpPr>
        <p:spPr>
          <a:xfrm>
            <a:off x="685800" y="304920"/>
            <a:ext cx="7772400" cy="16002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f89f7"/>
                </a:solidFill>
                <a:latin typeface="Tahoma"/>
              </a:rPr>
              <a:t>Competencia central</a:t>
            </a:r>
            <a:br>
              <a:rPr sz="4000"/>
            </a:br>
            <a:r>
              <a:rPr b="0" lang="es-ES_tradnl" sz="2400" spc="-1" strike="noStrike">
                <a:solidFill>
                  <a:srgbClr val="6f89f7"/>
                </a:solidFill>
                <a:latin typeface="Tahoma"/>
              </a:rPr>
              <a:t>Fortaleza única que le permite a la empresa lograr condición superior en cualquiera de los 4 bloques CIS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9" name="Rectangle 3"/>
          <p:cNvSpPr/>
          <p:nvPr/>
        </p:nvSpPr>
        <p:spPr>
          <a:xfrm>
            <a:off x="609480" y="2286000"/>
            <a:ext cx="3810240" cy="41148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f89f7"/>
                </a:solidFill>
                <a:latin typeface="Tahoma"/>
              </a:rPr>
              <a:t>RECURSO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angibles e intangib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Unicos y valios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. Financieros, físicos, tecnológicos y organizacionales 30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I. Humanos, innovación y de reputación. 70 por su defensa natur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0" name="Rectangle 4"/>
          <p:cNvSpPr/>
          <p:nvPr/>
        </p:nvSpPr>
        <p:spPr>
          <a:xfrm>
            <a:off x="4572000" y="2286000"/>
            <a:ext cx="3809880" cy="41148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f89f7"/>
                </a:solidFill>
                <a:latin typeface="Tahoma"/>
              </a:rPr>
              <a:t>CAPAC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1317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Habilidades de una empresa para coordinar sus recursos y destinarlos al uso productiv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1317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Toma de decisiones y manejo de procesos intern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SzPct val="11317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Conocimiento acumul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2"/>
          <p:cNvSpPr/>
          <p:nvPr/>
        </p:nvSpPr>
        <p:spPr>
          <a:xfrm>
            <a:off x="684360" y="620640"/>
            <a:ext cx="7772400" cy="1447920"/>
          </a:xfrm>
          <a:prstGeom prst="rect">
            <a:avLst/>
          </a:prstGeom>
          <a:solidFill>
            <a:srgbClr val="ffffff"/>
          </a:solidFill>
          <a:ln cap="rnd" w="0">
            <a:solidFill>
              <a:srgbClr val="ffffff"/>
            </a:solidFill>
            <a:custDash>
              <a:ds d="100000" sp="1000"/>
            </a:custDash>
          </a:ln>
          <a:effectLst>
            <a:outerShdw dist="107932" dir="2700000" blurRad="0" rotWithShape="0">
              <a:srgbClr val="00279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Tahoma"/>
              </a:rPr>
              <a:t>Definición de la Estrategia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es-ES_tradnl" sz="3600" spc="-1" strike="noStrike">
                <a:solidFill>
                  <a:srgbClr val="c00000"/>
                </a:solidFill>
                <a:latin typeface="Tahoma"/>
              </a:rPr>
              <a:t>Competitiva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2" name="Text Box 3"/>
          <p:cNvSpPr/>
          <p:nvPr/>
        </p:nvSpPr>
        <p:spPr>
          <a:xfrm>
            <a:off x="606600" y="3124080"/>
            <a:ext cx="33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imes New Roman"/>
              </a:rPr>
              <a:t>Liderazgo en Cost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5638680" y="3124080"/>
            <a:ext cx="33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imes New Roman"/>
              </a:rPr>
              <a:t>Diferenci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4" name="Text Box 5"/>
          <p:cNvSpPr/>
          <p:nvPr/>
        </p:nvSpPr>
        <p:spPr>
          <a:xfrm>
            <a:off x="3961080" y="4191120"/>
            <a:ext cx="15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0458c"/>
                </a:solidFill>
                <a:latin typeface="Times New Roman"/>
              </a:rPr>
              <a:t>Enfoqu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380880" y="2971800"/>
            <a:ext cx="8382240" cy="213372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6" name="Line 7"/>
          <p:cNvSpPr/>
          <p:nvPr/>
        </p:nvSpPr>
        <p:spPr>
          <a:xfrm>
            <a:off x="380880" y="4038480"/>
            <a:ext cx="838224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7" name="Line 8"/>
          <p:cNvSpPr/>
          <p:nvPr/>
        </p:nvSpPr>
        <p:spPr>
          <a:xfrm>
            <a:off x="4419720" y="2971800"/>
            <a:ext cx="0" cy="10666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2"/>
          <p:cNvSpPr/>
          <p:nvPr/>
        </p:nvSpPr>
        <p:spPr>
          <a:xfrm>
            <a:off x="611280" y="18900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Ventaja Competitiva y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9" name="Text Box 3"/>
          <p:cNvSpPr/>
          <p:nvPr/>
        </p:nvSpPr>
        <p:spPr>
          <a:xfrm>
            <a:off x="380880" y="920880"/>
            <a:ext cx="839160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imes New Roman"/>
              </a:rPr>
              <a:t>1</a:t>
            </a:r>
            <a:r>
              <a:rPr b="1" i="1" lang="es-ES_tradnl" sz="2600" spc="-1" strike="noStrike">
                <a:solidFill>
                  <a:srgbClr val="40458c"/>
                </a:solidFill>
                <a:latin typeface="Times New Roman"/>
              </a:rPr>
              <a:t>.-Eficiencia Superior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1.A.-Fabricació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Seguir la Curva de Experiencia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Los costos unitarios promedio-en moneda real- caen 20% a 30% cada vez que el volumen producido se duplic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Esta reducción es función de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Economías de esca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Aprendiza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cambios en ciclo de vi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depreciación de ac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2"/>
          <p:cNvSpPr/>
          <p:nvPr/>
        </p:nvSpPr>
        <p:spPr>
          <a:xfrm>
            <a:off x="646200" y="15732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Ventaja Competitiva y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1" name="Text Box 3"/>
          <p:cNvSpPr/>
          <p:nvPr/>
        </p:nvSpPr>
        <p:spPr>
          <a:xfrm>
            <a:off x="380880" y="920880"/>
            <a:ext cx="839160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imes New Roman"/>
              </a:rPr>
              <a:t>1</a:t>
            </a:r>
            <a:r>
              <a:rPr b="1" i="1" lang="es-ES_tradnl" sz="2600" spc="-1" strike="noStrike">
                <a:solidFill>
                  <a:srgbClr val="40458c"/>
                </a:solidFill>
                <a:latin typeface="Times New Roman"/>
              </a:rPr>
              <a:t>.-Eficiencia Superior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Times New Roman"/>
              </a:rPr>
              <a:t>1.B.-Estrategia de Market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Marketing Mix para dar alcance a la curva de experien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Indices de Deserción vs costos unitarios: Relación direc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Lealtad vs mo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Times New Roman"/>
              </a:rPr>
              <a:t>1.C.-Administración de Materia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Sistemas de Inventarios “Justo a Tiempo”: Economías en costos de mantenimiento de inventari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Times New Roman"/>
              </a:rPr>
              <a:t>1.D.-Investigación y Desarroll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Diseño de productos fáciles de fabricar (vínculo I&amp;D y Fabricac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Innovaciones pioneras de proces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2"/>
          <p:cNvSpPr/>
          <p:nvPr/>
        </p:nvSpPr>
        <p:spPr>
          <a:xfrm>
            <a:off x="646200" y="12528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Ventaja Competitiva y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3" name="Text Box 3"/>
          <p:cNvSpPr/>
          <p:nvPr/>
        </p:nvSpPr>
        <p:spPr>
          <a:xfrm>
            <a:off x="380880" y="888840"/>
            <a:ext cx="839160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00000"/>
                </a:solidFill>
                <a:latin typeface="Times New Roman"/>
              </a:rPr>
              <a:t>1</a:t>
            </a:r>
            <a:r>
              <a:rPr b="1" i="1" lang="es-ES_tradnl" sz="2600" spc="-1" strike="noStrike">
                <a:solidFill>
                  <a:srgbClr val="c00000"/>
                </a:solidFill>
                <a:latin typeface="Times New Roman"/>
              </a:rPr>
              <a:t>.-Eficiencia Superior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Times New Roman"/>
              </a:rPr>
              <a:t>1.E.-Recursos Human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Capacitación del empleado ==&gt; mayor productiv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Equipos Autogestionarios: equipo de trabajo más flexible que desarrolla un pdcto por completo (mayor responsabilidad y Empowerment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Pago por desempeño: personal o por equip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Times New Roman"/>
              </a:rPr>
              <a:t>1.F.-Infraestructu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Función de liderazgo de la alta Geren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Fomentar el compromiso de eficiencia en toda la compañía y coordina a todas las funciones en la búsqueda de ésta me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2"/>
          <p:cNvSpPr/>
          <p:nvPr/>
        </p:nvSpPr>
        <p:spPr>
          <a:xfrm>
            <a:off x="611280" y="18900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Ventaja Competitiva y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3" name="Text Box 3"/>
          <p:cNvSpPr/>
          <p:nvPr/>
        </p:nvSpPr>
        <p:spPr>
          <a:xfrm>
            <a:off x="395280" y="907920"/>
            <a:ext cx="8391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La ventaja competitiva debe verse desde la separación de funciones, que constituyen el aumento o no de valor para el cl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La Cadena de Valor es la herramienta básica para el anális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La Cadena de Valor clasifica a la empresa en actividades estratégicas relevant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s parte de un estructura mayor: EL SISTEMA DE VALO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El obtener y mantener la Ventaja Competitiva depende de comprender la Cadena de Valor y el Sistema de Valor de la empre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2"/>
          <p:cNvSpPr/>
          <p:nvPr/>
        </p:nvSpPr>
        <p:spPr>
          <a:xfrm>
            <a:off x="646200" y="12528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Ventaja Competitiva y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5" name="Text Box 3"/>
          <p:cNvSpPr/>
          <p:nvPr/>
        </p:nvSpPr>
        <p:spPr>
          <a:xfrm>
            <a:off x="380880" y="888840"/>
            <a:ext cx="83916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00000"/>
                </a:solidFill>
                <a:latin typeface="Times New Roman"/>
              </a:rPr>
              <a:t>2</a:t>
            </a:r>
            <a:r>
              <a:rPr b="1" i="1" lang="es-ES_tradnl" sz="2600" spc="-1" strike="noStrike">
                <a:solidFill>
                  <a:srgbClr val="c00000"/>
                </a:solidFill>
                <a:latin typeface="Times New Roman"/>
              </a:rPr>
              <a:t>.-Calidad Superior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Administración de la Calidad Total (ACT)</a:t>
            </a: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: filosofía concentrada en el mejoramiento de la calidad de productos y servicios como objetivo de todos los componentes de la compañí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Times New Roman"/>
              </a:rPr>
              <a:t>2.A.-Infraestructur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Suministrar liderazgo y generar compromiso con la c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Definir formas de medir c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Establecer metas y crear incent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Solicitar input a los emplea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Motivar la cooperación entre las áreas de la empre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2"/>
          <p:cNvSpPr/>
          <p:nvPr/>
        </p:nvSpPr>
        <p:spPr>
          <a:xfrm>
            <a:off x="646200" y="12528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Ventaja Competitiva y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7" name="Text Box 3"/>
          <p:cNvSpPr/>
          <p:nvPr/>
        </p:nvSpPr>
        <p:spPr>
          <a:xfrm>
            <a:off x="380880" y="888840"/>
            <a:ext cx="839160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00000"/>
                </a:solidFill>
                <a:latin typeface="Times New Roman"/>
              </a:rPr>
              <a:t>2</a:t>
            </a:r>
            <a:r>
              <a:rPr b="1" i="1" lang="es-ES_tradnl" sz="2600" spc="-1" strike="noStrike">
                <a:solidFill>
                  <a:srgbClr val="c00000"/>
                </a:solidFill>
                <a:latin typeface="Times New Roman"/>
              </a:rPr>
              <a:t>.-Calidad Superior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2.B.-Fabric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Acortar los tiempos y lotes de producción (Técnicas de fabricación flexibl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Encontrar el origen de los defec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2.C.-Market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Concentrarse en el cliente (identificar brecha de calida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Suministrar retroalimentación al cliente sobre c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2.D.-Abastec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Racionalizar los proveedor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Ayudar a los proveedores a implementar la vincul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Señalar los defectos a los proveedor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646200" y="12528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Ventaja Competitiva y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9" name="Text Box 3"/>
          <p:cNvSpPr/>
          <p:nvPr/>
        </p:nvSpPr>
        <p:spPr>
          <a:xfrm>
            <a:off x="380880" y="888840"/>
            <a:ext cx="83916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imes New Roman"/>
              </a:rPr>
              <a:t>2</a:t>
            </a:r>
            <a:r>
              <a:rPr b="1" i="1" lang="es-ES_tradnl" sz="2600" spc="-1" strike="noStrike">
                <a:solidFill>
                  <a:srgbClr val="40458c"/>
                </a:solidFill>
                <a:latin typeface="Times New Roman"/>
              </a:rPr>
              <a:t>.-Calidad Superior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Times New Roman"/>
              </a:rPr>
              <a:t>2.E.-Investigación &amp; Desarroll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Diseñar productos que sean fáciles de fabric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00000"/>
                </a:solidFill>
                <a:latin typeface="Times New Roman"/>
              </a:rPr>
              <a:t>2.F.-Recursos Human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Instituir programa de capacitación en AC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Organizar a los empleados en equipos de cal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2"/>
          <p:cNvSpPr/>
          <p:nvPr/>
        </p:nvSpPr>
        <p:spPr>
          <a:xfrm>
            <a:off x="646200" y="12528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Ventaja Competitiva y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1" name="Text Box 3"/>
          <p:cNvSpPr/>
          <p:nvPr/>
        </p:nvSpPr>
        <p:spPr>
          <a:xfrm>
            <a:off x="380880" y="888840"/>
            <a:ext cx="8391600" cy="53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00000"/>
                </a:solidFill>
                <a:latin typeface="Times New Roman"/>
              </a:rPr>
              <a:t>3</a:t>
            </a:r>
            <a:r>
              <a:rPr b="1" i="1" lang="es-ES_tradnl" sz="3000" spc="-1" strike="noStrike">
                <a:solidFill>
                  <a:srgbClr val="c00000"/>
                </a:solidFill>
                <a:latin typeface="Times New Roman"/>
              </a:rPr>
              <a:t>.-Innovación Superior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imes New Roman"/>
              </a:rPr>
              <a:t>Alto nivel de fracaso: </a:t>
            </a: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80% a 88%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Incertidumb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Deficiente comercialización (ajuste a la necesida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Insuficiente demand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Lentitud para lanzar el producto al merc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Habilidades para la Innov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Generar habilidades en la investigación científic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Estrecha integración entre I&amp;D y Market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Estrecha integración entre I&amp;D y Fabric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Minimizar tiempo de lanzamiento al mercad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Tener una buena administración de proyec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2"/>
          <p:cNvSpPr/>
          <p:nvPr/>
        </p:nvSpPr>
        <p:spPr>
          <a:xfrm>
            <a:off x="646200" y="12528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Ventaja Competitiva y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3" name="Text Box 3"/>
          <p:cNvSpPr/>
          <p:nvPr/>
        </p:nvSpPr>
        <p:spPr>
          <a:xfrm>
            <a:off x="380880" y="888840"/>
            <a:ext cx="839160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00000"/>
                </a:solidFill>
                <a:latin typeface="Times New Roman"/>
              </a:rPr>
              <a:t>3</a:t>
            </a:r>
            <a:r>
              <a:rPr b="1" i="1" lang="es-ES_tradnl" sz="2600" spc="-1" strike="noStrike">
                <a:solidFill>
                  <a:srgbClr val="c00000"/>
                </a:solidFill>
                <a:latin typeface="Times New Roman"/>
              </a:rPr>
              <a:t>.-Innovación Superior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imes New Roman"/>
              </a:rPr>
              <a:t>3.A.-Infraestructura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Administración general de proyec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Facilitar la cooperación interdisciplinar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3.B.-Fabric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Cooperar con I&amp;D en el diseño de productos fáciles de fabric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Trabajar con I&amp;D  en el desarrollo de innovaciones de proces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3.C.-Marketin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Suministrar Información de mercado a I&amp;D y trabajar con ésta en la creación de nuevos produc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2"/>
          <p:cNvSpPr/>
          <p:nvPr/>
        </p:nvSpPr>
        <p:spPr>
          <a:xfrm>
            <a:off x="646200" y="12528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Ventaja Competitiva y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5" name="Text Box 3"/>
          <p:cNvSpPr/>
          <p:nvPr/>
        </p:nvSpPr>
        <p:spPr>
          <a:xfrm>
            <a:off x="380880" y="888840"/>
            <a:ext cx="8391600" cy="40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imes New Roman"/>
              </a:rPr>
              <a:t>3</a:t>
            </a:r>
            <a:r>
              <a:rPr b="1" i="1" lang="es-ES_tradnl" sz="2600" spc="-1" strike="noStrike">
                <a:solidFill>
                  <a:srgbClr val="40458c"/>
                </a:solidFill>
                <a:latin typeface="Times New Roman"/>
              </a:rPr>
              <a:t>.-Innovación Superior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imes New Roman"/>
              </a:rPr>
              <a:t>3.D.-I&amp;D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imes New Roman"/>
              </a:rPr>
              <a:t>Crear nuevos productos y procesos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imes New Roman"/>
              </a:rPr>
              <a:t>Cooperar con las demás áreas, particularmente marketing y fabricación, en el proceso de creaci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40458c"/>
                </a:solidFill>
                <a:latin typeface="Times New Roman"/>
              </a:rPr>
              <a:t>3.E.-Recursos Humanos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imes New Roman"/>
              </a:rPr>
              <a:t>Contratar científicos e ingenieros con talent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2"/>
          <p:cNvSpPr/>
          <p:nvPr/>
        </p:nvSpPr>
        <p:spPr>
          <a:xfrm>
            <a:off x="646200" y="12528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Ventaja Competitiva y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7" name="Text Box 3"/>
          <p:cNvSpPr/>
          <p:nvPr/>
        </p:nvSpPr>
        <p:spPr>
          <a:xfrm>
            <a:off x="380880" y="888840"/>
            <a:ext cx="839160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00000"/>
                </a:solidFill>
                <a:latin typeface="Times New Roman"/>
              </a:rPr>
              <a:t>4</a:t>
            </a:r>
            <a:r>
              <a:rPr b="1" i="1" lang="es-ES_tradnl" sz="2600" spc="-1" strike="noStrike">
                <a:solidFill>
                  <a:srgbClr val="c00000"/>
                </a:solidFill>
                <a:latin typeface="Times New Roman"/>
              </a:rPr>
              <a:t>.-Satisfacción Superior de necesidades del client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00000"/>
                </a:solidFill>
                <a:latin typeface="Times New Roman"/>
              </a:rPr>
              <a:t>4.A.-Infraestructura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imes New Roman"/>
              </a:rPr>
              <a:t>Mediante el liderazgo, generar compromiso en toda la compañía con la capacidad de satisfacción al client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00000"/>
                </a:solidFill>
                <a:latin typeface="Times New Roman"/>
              </a:rPr>
              <a:t>4.B.-Fabricaci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imes New Roman"/>
              </a:rPr>
              <a:t>Lograr personalización del producto mediante la implementación de fabricación flexibl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imes New Roman"/>
              </a:rPr>
              <a:t>Lograr rápida respuesta mediante fabricación flexibl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00000"/>
                </a:solidFill>
                <a:latin typeface="Times New Roman"/>
              </a:rPr>
              <a:t>4.C.-Marketing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imes New Roman"/>
              </a:rPr>
              <a:t>Conocer al cliente y comunicar su retroalimentación a las áreas adecuadas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646200" y="12528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Ventaja Competitiva y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9" name="Text Box 3"/>
          <p:cNvSpPr/>
          <p:nvPr/>
        </p:nvSpPr>
        <p:spPr>
          <a:xfrm>
            <a:off x="380880" y="888840"/>
            <a:ext cx="839160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00000"/>
                </a:solidFill>
                <a:latin typeface="Times New Roman"/>
              </a:rPr>
              <a:t>4</a:t>
            </a:r>
            <a:r>
              <a:rPr b="1" i="1" lang="es-ES_tradnl" sz="2600" spc="-1" strike="noStrike">
                <a:solidFill>
                  <a:srgbClr val="c00000"/>
                </a:solidFill>
                <a:latin typeface="Times New Roman"/>
              </a:rPr>
              <a:t>.-Satisfacción Superior de necesidades del cliente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00000"/>
                </a:solidFill>
                <a:latin typeface="Times New Roman"/>
              </a:rPr>
              <a:t>4.D.-Abastecimient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imes New Roman"/>
              </a:rPr>
              <a:t>Desarrollar sistemas que le permitan reaccionar en forma más rápida al consumidor (JAT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00000"/>
                </a:solidFill>
                <a:latin typeface="Times New Roman"/>
              </a:rPr>
              <a:t>4.E.-I&amp;D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imes New Roman"/>
              </a:rPr>
              <a:t>Traer a los consumidores al proceso de desarrollo del producto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00000"/>
                </a:solidFill>
                <a:latin typeface="Times New Roman"/>
              </a:rPr>
              <a:t>4.F.-Recursos Humanos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0458c"/>
                </a:solidFill>
                <a:latin typeface="Times New Roman"/>
              </a:rPr>
              <a:t>Desarrollar programas de capacitación en donde los empleados asuman el rol de los clientes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2"/>
          <p:cNvSpPr/>
          <p:nvPr/>
        </p:nvSpPr>
        <p:spPr>
          <a:xfrm>
            <a:off x="611280" y="18900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Ventaja Competitiva y Actividad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5" name="Text Box 3"/>
          <p:cNvSpPr/>
          <p:nvPr/>
        </p:nvSpPr>
        <p:spPr>
          <a:xfrm>
            <a:off x="395280" y="907920"/>
            <a:ext cx="8391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Signific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Cada Empresa es un </a:t>
            </a: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Tahoma"/>
              </a:rPr>
              <a:t>conjunto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de actividades para diseñar, producir, llevar al mercado, entregar y apoyar al producto y servir al cliente (MKT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La cadena de valor es evidencia histórica, estrategia y enfoque para implementar la estrategia y las actividades económicas de una organiz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Tahoma"/>
              </a:rPr>
              <a:t>diferencias</a:t>
            </a: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 entre las Cadenas de Valor de los competidores son fuente clave de la </a:t>
            </a:r>
            <a:r>
              <a:rPr b="1" lang="es-ES_tradnl" sz="2400" spc="-1" strike="noStrike" u="sng">
                <a:solidFill>
                  <a:srgbClr val="40458c"/>
                </a:solidFill>
                <a:uFillTx/>
                <a:latin typeface="Tahoma"/>
              </a:rPr>
              <a:t>Ventaja Competitiv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2257560" y="380880"/>
            <a:ext cx="4406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58c"/>
                </a:solidFill>
                <a:latin typeface="Tahoma"/>
              </a:rPr>
              <a:t>LA CADENA DE VALOR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179640" y="1066680"/>
            <a:ext cx="415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58c"/>
                </a:solidFill>
                <a:latin typeface="Tahoma"/>
              </a:rPr>
              <a:t>Actividades de Valor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380880" y="1628640"/>
            <a:ext cx="876312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Son actividades físicas y tecnológicamente distintas. Son los canales o vías diferentes entre sí con tareas afines entre sí a través de los cuales la empresa entrega un producto de valor a sus client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9" name=""/>
          <p:cNvSpPr/>
          <p:nvPr/>
        </p:nvSpPr>
        <p:spPr>
          <a:xfrm>
            <a:off x="151560" y="3886200"/>
            <a:ext cx="1768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58c"/>
                </a:solidFill>
                <a:latin typeface="Tahoma"/>
              </a:rPr>
              <a:t>Margen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304920" y="4419720"/>
            <a:ext cx="87627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Es la diferencia entre el valor total y el costo sumado de desempeñar las actividades de val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2270160" y="380880"/>
            <a:ext cx="4406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58c"/>
                </a:solidFill>
                <a:latin typeface="Tahoma"/>
              </a:rPr>
              <a:t>LA CADENA DE VALOR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"/>
          <p:cNvSpPr/>
          <p:nvPr/>
        </p:nvSpPr>
        <p:spPr>
          <a:xfrm>
            <a:off x="179640" y="1066680"/>
            <a:ext cx="415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58c"/>
                </a:solidFill>
                <a:latin typeface="Tahoma"/>
              </a:rPr>
              <a:t>Actividades de Valor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304920" y="1523880"/>
            <a:ext cx="876276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Pueden dividirse en 2 tipos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Actividades Primarias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Actividades de apoyo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153000" y="3352680"/>
            <a:ext cx="4322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58c"/>
                </a:solidFill>
                <a:latin typeface="Tahoma"/>
              </a:rPr>
              <a:t>Actividades Primarias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304920" y="3733920"/>
            <a:ext cx="87627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Son referidas en la creación física del producto, venta y transferencia  y asistencia posventa al comprador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179640" y="4875120"/>
            <a:ext cx="434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58c"/>
                </a:solidFill>
                <a:latin typeface="Tahoma"/>
              </a:rPr>
              <a:t>Actividades de Apoyo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304920" y="5257800"/>
            <a:ext cx="8762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Sustentan a las actividades primarias y entre sí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571680" y="2286000"/>
            <a:ext cx="6858000" cy="2133720"/>
          </a:xfrm>
          <a:prstGeom prst="rect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ACTIVIDADES DE APOY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9" name=""/>
          <p:cNvSpPr/>
          <p:nvPr/>
        </p:nvSpPr>
        <p:spPr>
          <a:xfrm>
            <a:off x="539640" y="2276640"/>
            <a:ext cx="6858000" cy="50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INFRAESTRUCTURA -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0" name=""/>
          <p:cNvSpPr/>
          <p:nvPr/>
        </p:nvSpPr>
        <p:spPr>
          <a:xfrm>
            <a:off x="571680" y="4419720"/>
            <a:ext cx="6858000" cy="1295280"/>
          </a:xfrm>
          <a:prstGeom prst="rect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40458c"/>
                </a:solidFill>
                <a:latin typeface="Tahoma"/>
              </a:rPr>
              <a:t>ACTIVIDADES PRIMARIA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1" name=""/>
          <p:cNvSpPr/>
          <p:nvPr/>
        </p:nvSpPr>
        <p:spPr>
          <a:xfrm>
            <a:off x="2064600" y="762120"/>
            <a:ext cx="4684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58c"/>
                </a:solidFill>
                <a:latin typeface="Tahoma"/>
              </a:rPr>
              <a:t>Cadena de Valor Básica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2" name=""/>
          <p:cNvSpPr/>
          <p:nvPr/>
        </p:nvSpPr>
        <p:spPr>
          <a:xfrm>
            <a:off x="571680" y="2828880"/>
            <a:ext cx="6858000" cy="50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DESARROLLO TECNOLÓGICO - 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>
            <a:off x="539640" y="3357720"/>
            <a:ext cx="6858000" cy="50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RECURSOS HUMANOS - 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539640" y="3860640"/>
            <a:ext cx="6858000" cy="50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ABASTECIMIENTO - 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571680" y="4429080"/>
            <a:ext cx="1371600" cy="131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P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LOGISTICA DE ENTRAD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1943280" y="4419720"/>
            <a:ext cx="1371600" cy="131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P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OPERACI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NE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314880" y="4419720"/>
            <a:ext cx="1371600" cy="131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P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LOGISTICA DE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SALIDA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4686480" y="4419720"/>
            <a:ext cx="1371600" cy="131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P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MKT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Y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VENTA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6058080" y="4419720"/>
            <a:ext cx="1371600" cy="1311480"/>
          </a:xfrm>
          <a:prstGeom prst="rect">
            <a:avLst/>
          </a:prstGeom>
          <a:solidFill>
            <a:srgbClr val="ffffff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P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40458c"/>
                </a:solidFill>
                <a:latin typeface="Tahoma"/>
                <a:ea typeface="Tahoma"/>
              </a:rPr>
              <a:t>SERVICIO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0" name=""/>
          <p:cNvSpPr/>
          <p:nvPr/>
        </p:nvSpPr>
        <p:spPr>
          <a:xfrm rot="5400000">
            <a:off x="6419520" y="3371760"/>
            <a:ext cx="3505320" cy="1333440"/>
          </a:xfrm>
          <a:prstGeom prst="triangle">
            <a:avLst>
              <a:gd name="adj" fmla="val 50000"/>
            </a:avLst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1" name=""/>
          <p:cNvSpPr/>
          <p:nvPr/>
        </p:nvSpPr>
        <p:spPr>
          <a:xfrm rot="16200000">
            <a:off x="6230880" y="3774960"/>
            <a:ext cx="33544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40458c"/>
                </a:solidFill>
                <a:latin typeface="Tahoma"/>
                <a:ea typeface="Tahoma"/>
              </a:rPr>
              <a:t>MARG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1943280" y="2819160"/>
            <a:ext cx="4152600" cy="1600200"/>
            <a:chOff x="1943280" y="2819160"/>
            <a:chExt cx="4152600" cy="1600200"/>
          </a:xfrm>
        </p:grpSpPr>
        <p:sp>
          <p:nvSpPr>
            <p:cNvPr id="613" name=""/>
            <p:cNvSpPr/>
            <p:nvPr/>
          </p:nvSpPr>
          <p:spPr>
            <a:xfrm flipV="1">
              <a:off x="1943280" y="2819160"/>
              <a:ext cx="0" cy="1600200"/>
            </a:xfrm>
            <a:prstGeom prst="line">
              <a:avLst/>
            </a:prstGeom>
            <a:ln w="1260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3352680" y="2819160"/>
              <a:ext cx="0" cy="1600200"/>
            </a:xfrm>
            <a:prstGeom prst="line">
              <a:avLst/>
            </a:prstGeom>
            <a:ln w="1260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4686480" y="2819160"/>
              <a:ext cx="0" cy="1600200"/>
            </a:xfrm>
            <a:prstGeom prst="line">
              <a:avLst/>
            </a:prstGeom>
            <a:ln w="1260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095880" y="2819160"/>
              <a:ext cx="0" cy="1600200"/>
            </a:xfrm>
            <a:prstGeom prst="line">
              <a:avLst/>
            </a:prstGeom>
            <a:ln w="12600">
              <a:solidFill>
                <a:srgbClr val="40458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</p:spTree>
  </p:cSld>
  <p:transition>
    <p:wipe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3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3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3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3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3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3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2257560" y="380880"/>
            <a:ext cx="4406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58c"/>
                </a:solidFill>
                <a:latin typeface="Tahoma"/>
              </a:rPr>
              <a:t>LA CADENA DE VALOR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8" name=""/>
          <p:cNvSpPr/>
          <p:nvPr/>
        </p:nvSpPr>
        <p:spPr>
          <a:xfrm>
            <a:off x="167760" y="1066680"/>
            <a:ext cx="443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58c"/>
                </a:solidFill>
                <a:latin typeface="Tahoma"/>
              </a:rPr>
              <a:t>Actividades Primarias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>
            <a:off x="304920" y="1371600"/>
            <a:ext cx="8762760" cy="53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Logística Interna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Recibo, Almacenamiento, distrib. de insumos y MP, inventari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Operaciones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Actividades de transformación:maquinado, empaque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Logística Externa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Actividades de recopilación, almacenamiento y distribución física, procesamiento de pedidos y entreg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Marketing y Ventas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Actividades para facilitar los medios de compr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Servicios de Posventa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5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Actividades para realzar  y mantener el val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6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2257560" y="380880"/>
            <a:ext cx="4406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58c"/>
                </a:solidFill>
                <a:latin typeface="Tahoma"/>
              </a:rPr>
              <a:t>LA CADENA DE VALOR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185760" y="1066680"/>
            <a:ext cx="4912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58c"/>
                </a:solidFill>
                <a:latin typeface="Tahoma"/>
              </a:rPr>
              <a:t>Actividades de Apoyo de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304920" y="1704960"/>
            <a:ext cx="8762760" cy="47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Infraestructur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Administración, planeación, finanzas, contabilidad, calidad, Sistemas de Información, manejo de las relaciones con el gobierno, manejos legales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Abastecimient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40458c"/>
                </a:solidFill>
                <a:uFillTx/>
                <a:latin typeface="Tahoma"/>
              </a:rPr>
              <a:t>Función</a:t>
            </a: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 de comprar en la cadena de valor y para la caden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Recursos Humano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Búsqueda, Contratación, entrenamiento, desarrollo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458c"/>
                </a:solidFill>
                <a:latin typeface="Tahoma"/>
              </a:rPr>
              <a:t>Desarrollo Tecnológic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Know How, procedimientos, equipamiento, I+D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6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6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6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6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6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6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62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2257560" y="380880"/>
            <a:ext cx="4406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58c"/>
                </a:solidFill>
                <a:latin typeface="Tahoma"/>
              </a:rPr>
              <a:t>LA CADENA DE VALOR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4" name=""/>
          <p:cNvSpPr/>
          <p:nvPr/>
        </p:nvSpPr>
        <p:spPr>
          <a:xfrm>
            <a:off x="185400" y="1066680"/>
            <a:ext cx="374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0458c"/>
                </a:solidFill>
                <a:latin typeface="Tahoma"/>
              </a:rPr>
              <a:t>Tipos de Actividad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5" name=""/>
          <p:cNvSpPr/>
          <p:nvPr/>
        </p:nvSpPr>
        <p:spPr>
          <a:xfrm>
            <a:off x="304920" y="1704960"/>
            <a:ext cx="8762760" cy="49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Directas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Actividades directamente implicadas en la creación de valor para el comprador: ensamblaje, maquinado, operación de la fuerza de ventas, publicidad, diseño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Indirectas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Facilitan las directas en forma continua como ser: mantenimiento, programación, administración, registros de las operaciones, et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4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0458c"/>
                </a:solidFill>
                <a:latin typeface="Tahoma"/>
              </a:rPr>
              <a:t>Seguros de calidad: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457200">
              <a:lnSpc>
                <a:spcPct val="14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458c"/>
                </a:solidFill>
                <a:latin typeface="Tahoma"/>
              </a:rPr>
              <a:t>Aseguran la calidad de otras actividades: supervisión, pruebas, revisión, ajustes, retrabaj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6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6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0T14:11:42Z</dcterms:created>
  <dc:creator>The Clorox Company</dc:creator>
  <dc:description/>
  <dc:language>en-US</dc:language>
  <cp:lastModifiedBy>omontesa</cp:lastModifiedBy>
  <dcterms:modified xsi:type="dcterms:W3CDTF">2012-10-26T00:34:33Z</dcterms:modified>
  <cp:revision>106</cp:revision>
  <dc:subject/>
  <dc:title>“Presunciones básicas y creencias que comparten los miembros de una organización”</dc:title>
</cp:coreProperties>
</file>