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443-B152-4F25-864C-BD9989D9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865-146B-4EF4-9467-023AF9BA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5EAD-9B02-4186-84CF-6EBF593F3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4CA-96C7-4EDE-946B-E3E5DDD7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1F3E-87DB-4A6A-950C-1434C1F4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F205-4A15-4728-AA01-A7CB63D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2279-D919-42DB-94A5-E7C99731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3BD6-8A5E-47FA-AED3-2F09B13B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A43C-9CB0-4C5D-A176-2135C7DD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2611-A950-44C2-8019-F0296816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193F-ABE0-4939-9BB4-7C5453E1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58D-43F3-4992-AC6D-CD99027D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C328-5ED0-49D2-AAB8-EB1C6AD1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BF7A-4EAB-4568-8397-28BE0C80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B505-3058-4174-A45E-49F6093F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8C7A-CF1C-4677-820F-C6949EB1F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734C-0944-484D-A14C-8CE47903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88F90-BA84-487E-AE66-1F163456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7E726-FA0F-4B4D-BAA6-6C538A9B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1C12-3FE5-4086-88B4-A762D667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2825C-2D20-44E6-BC82-39E0E51F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F1134-31FB-4C6A-AC2B-B1376388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FF3-DF85-43FF-8AE6-A4CC9D43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BF95-A82C-444E-80DE-E2A298B9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7A31-65AD-4FC6-82DE-295AE0B3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1357C-08E4-40D6-BBC1-E74A29CE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DC9D4-A192-470A-8EFA-96D78998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F49BF-69A7-499F-885C-FFEA14FB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D412-2C63-48D3-ADDF-556E2789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805F-4599-4D51-8FBB-5B6AC5EB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F41-E307-4627-96EA-A057D81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CE1-F0EF-4487-8D96-B074C30A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933-C031-4997-B273-E491501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6D88-CD9C-448C-B3C9-B4B6082F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92D-60E4-4C7A-A343-27CD42BE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C48-9EC3-4148-A0B9-98299BD8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FC64-B7E5-4C13-8BAD-6F339BF917B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29CCB-59C1-4FE4-A672-8A154AB4D6DC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599C-4551-415E-8438-6EC579201411}" type="slidenum">
              <a:rPr b="0" lang="es-E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ciclog.blogspot.mx/2011/09/michael-porter-claves-para-una.html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4716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826560" y="1773000"/>
            <a:ext cx="78598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6800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8007f"/>
                </a:solidFill>
                <a:latin typeface="Arial"/>
              </a:rPr>
              <a:t>Objetivo para el estudi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ocerá las estrategias de Porter sobre el sector industrial y la competenci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nderá su fundamento y alcanc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í mismo sus condicionantes y requerimientos.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1.4 Globalización y tecnología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economía global se caracteriza porque los: bienes~  servicios~ personas~ ideas y habilidades transi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 libertad entre fronteras geográficas. Lo que expande y complica el entorno en que compite la empresa. La globalización es la interdependencia económica de los paises y sus organizaciones que se refleja en el flujo de b y s~ capital financiero y el conocimiento que cruza fronteras. Lo que lleva a que la competencia se caracterice por estándares que se elevan cada día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56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tecnología modifica la esencia de la compete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ia y aumenta su inestabilidad. Tres categorías de tendencias que impactan la competencia la: difusión de la tecnología y tecnol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ías disru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ivas~ era de la información y el creciente valor del conocimi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elocidad del avance tecnológico reduce el ciclo de vida de los productos y presiona al conocimiento~ hablamos de innovación perp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tua. Tecnologías disruptivas cuando su aplic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ión origina un nuevo sector industrial y afecta al exist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562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 Narrow"/>
              </a:rPr>
              <a:t>La era de la información~ ahora acceder  y utilizarla de forma efectiva y eficiente se ha convertido en una fuente de ventaja competitiva para todas las industrias. Creciente valor del conocimiento (información~ inteligencia y experiencia) y aumentará como fuente de ventaja competitiva. La empresa debe crear rutinas para la difusión del conocimiento por toda la organización y se use donde tenga valor. Estrategia flexible. Aprender mejor que sus competidores y aplicar ese conocimiento a mayor velocidad y de forma más amplia que el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Estrategia es un conjunto de compromisos y acciones integrados y coordinados~ para explotar las competencias centrales y lograr una VC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Competitividad estratégica cuando tiene éxito en formular e implantar una estrategia que crea valo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Ventaja competitiva cuando se implanta una estrategia que sus competidores no pueden copiar o la imitación resulta muy costos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Flexibilidad estratégica conjunto de capacidades que se utilizan para responder a las distintas demandas y oportunidades que existen en un entorno competitivo.</a:t>
            </a:r>
            <a:r>
              <a:rPr b="0" lang="es-MX" sz="25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562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rientación Estratégic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.3 Modelos de liderazgo estratégi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Modelo O/I sugiere que el ambiente exte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no es el principal determinante de la estrat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ia. Identifica industria atractiva y aplica estrategia adecu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buClr>
                <a:srgbClr val="6600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 Narrow"/>
              </a:rPr>
              <a:t>Modelo de los recursos, capacidades y Competencias Centrales internas. Los conjuga como fuente de su VC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77562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ulación de la Estrategi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ceso de planeación estratégic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. Definir la visión – misión y las met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. Analizar ambiente externo para identificar oportunidades y amenaz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. Analizar ambiente interno para identificar fortalezas y debilidad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. Definir estrategia que resalte la fortaleza,    corrija debilidades, aproveche oportunidades y  </a:t>
            </a: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onsidere las amenazas extern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 Narrow"/>
              </a:rPr>
              <a:t>Visión – Mi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visión y la misión se construyen tomando como base la información y los conocimientos que se acumulan de los análisis de los entornos internos y externos de la organización~ concluyendo cuáles son sus recursos~ capacidades y competencias centrales (fuentes de sus insumos estratégic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visión refleja lo que el ente quiere ser y/o de aquello que desea alcanzar en última insta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misión fluye de la visión y detalla el o los negocios donde la empresa compite y a los clientes que atien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a visión y la misión marcan el rumbo de la empresa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munican el ser de la organización a los grupos de inter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Líderes estratégicos personas que dirigen la organización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que utilizan el proceso de admón. Estratégica para lograr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ésta realice su visión y su misión. La ética colabora a qu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estrategia se afiance y repercute negativamente cuando s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deja de lado como el caso Walt Mart. Los líderes predi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n el ejemplo y la ética paga. Es un recurso que se requi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nstruir solidamente en la organización. El manejo de 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utilidades es otra fuente de ética y compromiso con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organización~ primero deben reservar aquellas uti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 Narrow"/>
              </a:rPr>
              <a:t>comprometidas con la cadena de va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Visión es el puerto al que queremos llega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la Misión es lo que debemos hacer para naveg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hasta allí y los Valores son los instrumentos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nos permiten mantener la rectitud del rumb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rold Colina - Consultor Gerenc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visión ~ visión y valores conforman 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ceptual del negocio necesario para capit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s oportunidades que brinda el entorno. Son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base del modelo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isión define cómo la organización, a través 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fuerzo y del compromiso genuino de su g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caminará todas sus acciones a hacer lo 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que hacer en la creación del paquete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, logrando así su trascendencia. La V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giere una Misión futura a ser realizada en 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tio donde se quiere es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vee camino – genera entusiamo de dirección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enera confianza de liderazgo – ofrece criter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el éx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9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br>
              <a:rPr sz="4400"/>
            </a:br>
            <a:br>
              <a:rPr sz="4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ntabilidad: forma de lograrla: maximizando los recursos, eliminando la ineficiencia, mejorando la productividad e implementando modernas formas de managment (calidad total , reingeniería, bechmarking 6 sigma que se vienen aplicando en todas partes del mundo). Porter señala que: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no alcanza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para conseguir esa ventaja competitiva que nos haga verdaderamente diferentes en la industria y permita asegurar la más alta rentabilidad. </a:t>
            </a:r>
            <a:br>
              <a:rPr sz="2400"/>
            </a:b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entabilidad depend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tanto de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structur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l tipo de industria al que pertenece como del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posicionamiento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alcanzado frente a la </a:t>
            </a: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ompete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Visión y misión respon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Qué. La razón de ser del nego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Quién. Los futuros c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Qué. Fin últi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ómo. Mecanismos y recursos a utiliz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ónde. Sentido de ubicación líde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ándo. Con sentido infinito visión 15 – 1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tributos del proceso. Calidad – innovación – e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alores Humanos. Más sentidos y relacion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lada en un solo párrafo. Reto – compromiso –Tra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cend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Proceso de Planeación Estratégic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141408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 Grupos de interés. Retribución que ofre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 Cultura organizacional. Valores y 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I Políticas y normas. Productividad – eficiencia – calidad – rentabil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V elementos de Estrateg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actividad básica o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líneas de productos y serv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Elementos tangibles e intangibles precio 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segmentos de atención prioritaria y com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algunas posibles ventajas competitivas. Rh-p-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l Entorno Externo.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entorno externo influye en el crecimiento y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ntabilidad de la empresa. Para analizarlo y co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enderlo se divide en: General- Industrial y de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etencia. Oportunidad – amena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ploración. Identificar las primeras señales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endencias (T) y cambios (C) en el entorno (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nitoreo. Detectar el significado de Explo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nóstico. Preparar proyecciones de el monitor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. Determinar tiempos y la importa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(T y C en el E) que tienen para las estrateg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 las empresas y su administr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El Entorno Externo.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36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 Entorno General sociedad entera (véase Doc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nto de Word). Variables Macro. Realizarlo s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bre México y Guadalajara. Ambiente: e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dinámico ~ complejo o simple ~ hostil o hosp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lario ~ integrado o divers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 Entorno Industrial. Factores que influyen direct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nte en la empresa y en sus acciones y 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uestas competi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II. Entorno de la Compe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jecución de la Estrategi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MX" sz="3100" spc="-1" strike="noStrike">
                <a:solidFill>
                  <a:srgbClr val="000000"/>
                </a:solidFill>
                <a:latin typeface="Arial"/>
              </a:rPr>
              <a:t>lan estratégico para toda la organización. Incluye todas las áreas. Y temáticas como calidad, cultura de la organización, la estructura organizacional, sistemas, costos, personal, venta o compra de empresas o partes de las misma. Los interesados y los órganos de gobierno. Circulos de decisión.  Sistemas de control Estratégico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responsables de marcar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bjetivos de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en conocer perfectamente cómo es la industria do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s toca competir y qué lugar ocupa su 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mpres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n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l mercado. 5 fuerzas y promedio de rentabilidad de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dustria y de los particip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desempeño de se relaciona con dos factores: 1. (1/3)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uctura de esa industria y 2. (2/3) la posición de la pr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ia compañía dentro de dicha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ter comprobó que existen sólo dos formas de obt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a ventaja competitiva: a través de costos bajos y por 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ferenciación. Estos dos conceptos son la base de to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rategia competitiva que, junto con el terreno donde 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dos -mercado masivo o segmentos del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iferenciar sus productos para poder establecer un precio más elevado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Ofrecer un valor exclusivo a sus clientes, a partir de características y tecnologías supe- riores. Lo que puede significar costos más altos, pero no es importante en la medida en que el precio final sea mayor que el costo extra de ofrecer un valor ú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2. Tener los costos más bajos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 La empresa puede decidir pasar algunas de las reducciones de costos hacia los precios, pero costos menores significan mayores már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 ventaja competitiva sólo puede ser entendida observando las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tividades de la empresa y ser capaz de identificar dónde se encue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ran las ventajas y las desventajas de la compañía. Por ello se requi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tudiar qué actividades específicas proporcionan una ventaja comp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tiva en cuanto a los costos o a la diferenci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as 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mpresas 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ben hacer otra elección en términos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"campo de acción competitivo". Y aquí nace el concepto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enfoqu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 Toda industria tiene una variedad de seg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 clientes con necesidades diferentes. El campo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cción es decidir a cuántos de esos segmentos se el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rvir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oncepto esencial de posicionamiento es elegir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1 Lo que se entiende por Estrateg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trategia es el compromiso de poner en marcha un conjunto de medidas y no otro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s elegir comprometidamente la forma de competir. Es el plan de acción para operar y dirigir el negocio. Es el compromiso con un conjunto de medidas para hacer atractiva al Ente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3640" y="1125000"/>
            <a:ext cx="856908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2 La importancia de la Estrategia en la Administ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 requiere una buena estrategia para una buena admón. Otro componente es la ejecución de la misma. Ambas hacen la Excelencia Administrativa. Sin estrategia se es una nave sin timón. Responde a cómo: crecer, construir clientes, vencer a la competencia, operar, mejorar el desempeño, fortalecernos y llegar a la posición deseada.  Desempeño  superior VC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.3 La orientación de la Estrategia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iderazgo estratégico.  Desempeño sup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ior y ventaja competitiva. Valor al accionista, plusvalía y dividendos. Cuando tiene una re</a:t>
            </a:r>
            <a:r>
              <a:rPr b="0" lang="en-US" sz="35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abilidad sostenida por arriba del promedio es cuando logra la ventaja competitiv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9040" y="188640"/>
            <a:ext cx="77565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strategia Empresaria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Arial"/>
              </a:rPr>
              <a:t>1.4 Globalización y cambio tecnológico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lobalización de las industrias y de los mercados y la velocidad del cambio tecnológico son los dos factores que más contribuyen a la turbulencia competitiva. Hay que sacar ventaja de ello~ cómo comprendiendolo e incorporándolos a la organización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0T19:05:53Z</dcterms:created>
  <dc:creator>nathalie.ferrer</dc:creator>
  <dc:description/>
  <dc:language>en-US</dc:language>
  <cp:lastModifiedBy>omontesa</cp:lastModifiedBy>
  <dcterms:modified xsi:type="dcterms:W3CDTF">2012-10-26T00:34:03Z</dcterms:modified>
  <cp:revision>61</cp:revision>
  <dc:subject/>
  <dc:title>Presentación de PowerPoint</dc:title>
</cp:coreProperties>
</file>